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189-BD27-4DD3-8FB3-5405A292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C6C-64C1-4226-AA9A-5C98CFC9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C59-C25B-4188-B82A-19604560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6B7-595B-461E-BD94-7E19917D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E8D-D153-4628-A7B8-4B26FC7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55F-FBFC-4F18-B17D-6842003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EC9-1F78-4895-95DA-EE986FA5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6C5-2DCD-4DDF-A7FC-BF767A9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6A2-CA13-4225-9123-433364D3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AD0-792C-48A4-AC61-37DF802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BFF-71A8-45DF-B37C-028C00C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815-AC64-4B8B-A00D-86BC22A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3C8-8CA9-43B2-B95D-0F0182346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42226VAsJUZVajX_ph" descr=""/>
          <p:cNvPicPr/>
          <p:nvPr/>
        </p:nvPicPr>
        <p:blipFill>
          <a:blip r:embed="rId2"/>
          <a:stretch/>
        </p:blipFill>
        <p:spPr>
          <a:xfrm>
            <a:off x="-487440" y="0"/>
            <a:ext cx="541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مطِر علي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َ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ملأ قلوبَ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مل الله الحامل خطايا العالم إرحمنا إرحمناإرحم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2:20Z</dcterms:created>
  <dc:creator>SUZANNE.MD</dc:creator>
  <dc:description/>
  <dc:language>en-US</dc:language>
  <cp:lastModifiedBy>USER</cp:lastModifiedBy>
  <dcterms:modified xsi:type="dcterms:W3CDTF">2002-12-23T20:07:15Z</dcterms:modified>
  <cp:revision>2</cp:revision>
  <dc:subject/>
  <dc:title>PowerPoint Presentation</dc:title>
</cp:coreProperties>
</file>